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5A4A-7EAB-4E82-AB0B-E8C4B2E99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9B2F-0B21-4B24-BA03-C20C21B1F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F9B1-5D77-4A21-89F2-6D2400426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brain helps to relay messages, process information, and analyze information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brain consists of the cerebrum, cerebellum, and brain 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B58-1EF4-4B14-A30E-130BB093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DF2-548B-4A91-A4A0-C20A23ED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ACC-0264-406C-A56E-02F7987C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E94-5B40-48EE-9C2E-FB5A94FB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7AA2-40FD-42EB-97BE-20C1F031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8B13-BD8B-4D08-AB85-9C8D3C63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E4CA-4C01-4BEC-A883-75C35EC5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9B4E-896F-4B06-9BE7-9416A715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E959-49ED-4975-9C6B-1B2CCF5F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E1AA-9462-4934-9D4B-5D9EAED5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484-953D-4CB9-A40A-3B91980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EB8-EF58-4C40-87A5-E749C8E1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2847-C00A-4CF4-9503-B4CB660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9245-CBA7-4D4E-A610-536D1952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EB0C-7891-4A5D-92D0-E83B4488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93CD-CDBB-4132-A8BB-0DA4C53F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DEF3-8225-497F-81DA-6FC0988C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53B3-0C78-4A2B-B7BF-FCF3EEB7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D837-D579-4DF3-BACE-CC252D9A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FB26-0FBF-4192-93FD-D8BD4C4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36B3-3484-4832-BE73-1E6F0208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FE42-7F19-4076-BD5E-BC0E7405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9CF-144B-4FEF-8D82-DFFF3EDF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E7F1-660B-4B09-905D-CE9FBB08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2115-312E-4BF8-A502-9F5728F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04EA-C363-4DD2-BD55-25B11C7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05B2-517A-4706-88EE-21863BF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11DF-F3DD-44DD-8C93-94DFABD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597B-D1D2-4AA7-AA53-91B988A5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0179-A974-4C91-B46A-75EC749E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7666-A306-443E-8F05-7746389A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B4EFB-DB48-47A9-825C-40280B44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A3BBA-0A72-4DE0-8DFB-4292940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6D7-9592-469A-8398-3BEC21BD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1302-397F-4393-9289-59C4D85A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635C-372E-443E-9BEC-9551A69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C85B-F7E7-4685-B1B1-470B1BC5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8A37-B1C9-49C6-9DE4-A279C24C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3793B-4CFB-4B80-87BA-51A6ED56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1673-B94B-4F02-B62B-E08DE535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B1EE-F03F-4404-8ACA-2419579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971E-AAD4-4690-A5C3-7EA313EB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6BA7D-8B2D-4432-A400-E3C97C48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791FC-AE5D-4AC7-8352-B677AB3F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76C-7374-4AAF-92BC-6EFFB5F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DB0BB-1416-4C0C-8512-16D5FDDE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DF8D-E741-4D13-8DD4-C63912B5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97AE-51A0-4617-BCCC-921ABB3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52A5-A7DF-499A-94D7-FD0D5035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3BE3-C100-464B-AEDD-808427F3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2063-F5BE-4EF0-8FD2-F0FFDE3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A9860-B4E2-416D-AC36-B865C874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80A6-BC29-4251-852A-A7B2C05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B2BB-3123-4345-97F3-B01BD541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7AD1-F6E0-443F-B7A6-6440080E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058-5BF7-4CDE-A3D8-555AE045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EAE8F-914E-4CCA-943E-19B6B023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EAA5-B643-4FFF-B7EA-88886C08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FE6E-10C8-4E21-B14B-D9F37F96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B16EA-EA36-4B46-8411-4119CBCB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10325-FB38-43C5-87D2-CC2F6F01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B6520-E2F6-4160-9D14-936D3592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2E73-0362-4F6C-A9DD-41E1F118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15410-5D24-4B4E-9656-23CCA17E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B4C2D-8F6E-43AA-96B1-A60C366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90E5C-AD4F-401E-BC77-B69E9C37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E3D-C3A2-4D66-BF3F-66C7D5D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7D9C-42DA-4424-B43E-8784C76E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059B-185B-40D9-9701-C0A5CFFB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E615-BFD1-415A-B9BB-B7836480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EE83-83B2-4BA9-A2A7-939EDA63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3159-B5AB-46C8-AF08-C0171D35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8FC6-E5E6-406F-99E9-2A8D9A69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277FE-A6F6-4DC8-8A02-116DAB38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DEF6-2305-4BF0-8C63-79140832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655B-9C7B-4468-9026-BBC6AC3A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D30F7-0EFA-49EF-A590-133F07E7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A02-AF49-4C1C-86A5-9C9C7F4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13A7B-84F5-485A-AE51-E08331C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EFA9D-434E-47DA-B445-887CE852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5FF4-7C4A-4CCB-AEF2-F43B9A9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FEB8-85A6-4E30-B10B-AD0E9952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47E3-B16F-4AEC-87AE-01B956B7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C4E-9499-478A-A9AC-7478AC0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B831-DC2C-449E-9EAA-16C90780D5B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BA68-95DD-4108-971B-14814E0095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6904-A3E1-4A72-A6F4-F00621CFF2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A572-0507-425F-A54F-7A41984DC40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3A85-3A18-4B44-A506-F95EEFB5D6D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8056-0B50-411C-855C-F68F6B93408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087F-15E5-4188-BC58-8A81F902A4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Nervous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tructures and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http://dualfit.com/wp-content/uploads/2012/04/Screen-Shot-2012-04-28-at-11.09.00-PM.png"/>
          <p:cNvPicPr/>
          <p:nvPr/>
        </p:nvPicPr>
        <p:blipFill>
          <a:blip r:embed="rId1"/>
          <a:stretch/>
        </p:blipFill>
        <p:spPr>
          <a:xfrm>
            <a:off x="6168960" y="2816280"/>
            <a:ext cx="2371680" cy="3335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http://img.ehowcdn.com/article-new/ehow/images/a04/uf/79/information-nervous-system-800x800.jpg"/>
          <p:cNvPicPr/>
          <p:nvPr/>
        </p:nvPicPr>
        <p:blipFill>
          <a:blip r:embed="rId2"/>
          <a:stretch/>
        </p:blipFill>
        <p:spPr>
          <a:xfrm>
            <a:off x="682560" y="2816280"/>
            <a:ext cx="4322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ka the “little brain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ponsible for coordination of motor fun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involved in language (although poorly understoo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rain 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parts: pons and medulla oblong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diates flow between body and br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37160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halam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eives and relays information from spine to appropriate area of cerebr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nection between endocrine system and nervous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in highway system to central hub that is the br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ipheral Nervous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vided into two parts: somatic and autonom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atic said to be under voluntary contr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ough it involves sensory neurons and motor neurons connected to skeletal mus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utonomic can be thought of as “automatic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ons that are involunt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434960" y="45720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rther divided into two sections: sympathetic and parasympathe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form opposite roles in bod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m vs p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8728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ntral Nervous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ready know it consists of the brain and spinal 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th are bathed in the cerebrospinal flu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protects and nourish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encased in the meninges – three layers of connective tiss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2" descr="http://www.premierfortcollinschiropractor.com/wp-content/uploads/2010/12/meninges-2.jpg"/>
          <p:cNvPicPr/>
          <p:nvPr/>
        </p:nvPicPr>
        <p:blipFill>
          <a:blip r:embed="rId1"/>
          <a:stretch/>
        </p:blipFill>
        <p:spPr>
          <a:xfrm>
            <a:off x="4495680" y="4648320"/>
            <a:ext cx="1987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arts of the Human Brai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94920" y="12189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5" descr="35-9"/>
          <p:cNvPicPr/>
          <p:nvPr/>
        </p:nvPicPr>
        <p:blipFill>
          <a:blip r:embed="rId1"/>
          <a:stretch/>
        </p:blipFill>
        <p:spPr>
          <a:xfrm>
            <a:off x="793800" y="1778040"/>
            <a:ext cx="7531200" cy="4340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3"/>
          <p:cNvSpPr/>
          <p:nvPr/>
        </p:nvSpPr>
        <p:spPr>
          <a:xfrm>
            <a:off x="6908760" y="2452680"/>
            <a:ext cx="7542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6743880" y="233208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alamu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7648560" y="2801880"/>
            <a:ext cx="5810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7548480" y="2738520"/>
            <a:ext cx="15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neal glan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053120" y="4614840"/>
            <a:ext cx="10321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6940440" y="45752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ebellu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6313320" y="5630760"/>
            <a:ext cx="928800" cy="2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91280" y="55627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914400" y="4325760"/>
            <a:ext cx="1146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382680" y="4194000"/>
            <a:ext cx="180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ypothalamu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987480" y="4659480"/>
            <a:ext cx="10875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355680" y="46180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tuitary glan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523880" y="2060640"/>
            <a:ext cx="82728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765000" y="1878120"/>
            <a:ext cx="17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ebru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1465200" y="5342040"/>
            <a:ext cx="8859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847800" y="52624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ain 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2700360" y="5070600"/>
            <a:ext cx="8539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26"/>
          <p:cNvSpPr/>
          <p:nvPr/>
        </p:nvSpPr>
        <p:spPr>
          <a:xfrm>
            <a:off x="2700360" y="5675400"/>
            <a:ext cx="143028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2822400" y="49957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921040" y="5353200"/>
            <a:ext cx="14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dulla oblong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rgest section, made of many folded regions called fissures (why?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ngitudinal central fissure runs through the middle, dividing the brain into hemisphe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ight and left connected by corpus callos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s voluntary a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rther divided into four lob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pegasus.cc.ucf.edu/~Brainmd1/brmodelc.gif"/>
          <p:cNvPicPr/>
          <p:nvPr/>
        </p:nvPicPr>
        <p:blipFill>
          <a:blip r:embed="rId1"/>
          <a:stretch/>
        </p:blipFill>
        <p:spPr>
          <a:xfrm>
            <a:off x="1371600" y="228600"/>
            <a:ext cx="66294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447560" y="5486040"/>
            <a:ext cx="7497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ch lobe has specific control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8" descr="35-10"/>
          <p:cNvPicPr/>
          <p:nvPr/>
        </p:nvPicPr>
        <p:blipFill>
          <a:blip r:embed="rId1"/>
          <a:stretch/>
        </p:blipFill>
        <p:spPr>
          <a:xfrm>
            <a:off x="2209680" y="38088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er portion is the cerebral cortex, made of grey mat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ner portion is made of white mat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s of glial cells and myelinated ax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lial cells outnumber neurons and perform custodial ro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m myel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 nutir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ulate extracellular materi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home.apu.edu/~jsimons/Bio101/glial_cells.gif"/>
          <p:cNvPicPr/>
          <p:nvPr/>
        </p:nvPicPr>
        <p:blipFill>
          <a:blip r:embed="rId1"/>
          <a:stretch/>
        </p:blipFill>
        <p:spPr>
          <a:xfrm>
            <a:off x="228600" y="762120"/>
            <a:ext cx="8523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pubpages.unh.edu/~jel/images/brain_glia.jpg"/>
          <p:cNvPicPr/>
          <p:nvPr/>
        </p:nvPicPr>
        <p:blipFill>
          <a:blip r:embed="rId1"/>
          <a:stretch/>
        </p:blipFill>
        <p:spPr>
          <a:xfrm>
            <a:off x="228600" y="609480"/>
            <a:ext cx="871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2:34:56Z</dcterms:created>
  <dc:creator>ED18</dc:creator>
  <dc:description/>
  <dc:language>en-US</dc:language>
  <cp:lastModifiedBy>ED18</cp:lastModifiedBy>
  <dcterms:modified xsi:type="dcterms:W3CDTF">2012-05-18T10:09:50Z</dcterms:modified>
  <cp:revision>4</cp:revision>
  <dc:subject/>
  <dc:title>The Nervous System</dc:title>
</cp:coreProperties>
</file>